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F903-8F32-4949-A818-D8DB750C5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E733-D2CF-4E32-A578-34AD3587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9C39-F432-49E7-8734-DA900EF7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9A5B-BEB2-42A2-96E8-3DA70081F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F6A7-6F9E-4FE1-9EA8-332A9FE5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74D5-C2B5-47F8-8E11-F7770105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2BBC-E46D-4994-98D6-A2959996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A716-E86D-4F7F-8E2A-00D62F97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C7F2-93E1-4730-930E-3F4F5334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9136-908B-42CF-9963-197752BE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32B0-6011-4438-98B5-E0D3139B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BE9A-FFE1-4DCC-954D-41C823A2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69B2-C521-4525-8152-74B5E3559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wmf"/><Relationship Id="rId10" Type="http://schemas.openxmlformats.org/officeDocument/2006/relationships/image" Target="../media/image3.jpeg"/><Relationship Id="rId11" Type="http://schemas.openxmlformats.org/officeDocument/2006/relationships/image" Target="../media/image4.jpeg"/><Relationship Id="rId12" Type="http://schemas.openxmlformats.org/officeDocument/2006/relationships/image" Target="../media/image5.wm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jpeg"/><Relationship Id="rId10" Type="http://schemas.openxmlformats.org/officeDocument/2006/relationships/image" Target="../media/image8.wmf"/><Relationship Id="rId11" Type="http://schemas.openxmlformats.org/officeDocument/2006/relationships/image" Target="../media/image9.wmf"/><Relationship Id="rId12" Type="http://schemas.openxmlformats.org/officeDocument/2006/relationships/image" Target="../media/image10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wmf"/><Relationship Id="rId10" Type="http://schemas.openxmlformats.org/officeDocument/2006/relationships/image" Target="../media/image3.jpeg"/><Relationship Id="rId11" Type="http://schemas.openxmlformats.org/officeDocument/2006/relationships/image" Target="../media/image4.jpeg"/><Relationship Id="rId12" Type="http://schemas.openxmlformats.org/officeDocument/2006/relationships/image" Target="../media/image5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333360"/>
            <a:ext cx="867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eads, Shoulders, Knees and To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79640" y="1700280"/>
            <a:ext cx="4951440" cy="39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beza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ombros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odillas y dedos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odillas y dedos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9"/>
          <a:stretch/>
        </p:blipFill>
        <p:spPr>
          <a:xfrm>
            <a:off x="1908000" y="1341360"/>
            <a:ext cx="1224000" cy="1243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10"/>
          <a:stretch/>
        </p:blipFill>
        <p:spPr>
          <a:xfrm>
            <a:off x="6156360" y="2492280"/>
            <a:ext cx="752400" cy="1128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11"/>
          <a:stretch/>
        </p:blipFill>
        <p:spPr>
          <a:xfrm>
            <a:off x="755640" y="4149720"/>
            <a:ext cx="901800" cy="1128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12"/>
          <a:stretch/>
        </p:blipFill>
        <p:spPr>
          <a:xfrm>
            <a:off x="7164360" y="4149720"/>
            <a:ext cx="1224000" cy="857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8028000" y="5734080"/>
            <a:ext cx="609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x2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771640" y="907920"/>
            <a:ext cx="3961080" cy="481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Y ojo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Y orejas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Y boca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Y nariz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1763640" y="907920"/>
            <a:ext cx="1297080" cy="863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6877080" y="1989000"/>
            <a:ext cx="863640" cy="1322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1476360" y="3573360"/>
            <a:ext cx="1589040" cy="722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6659640" y="4724280"/>
            <a:ext cx="115704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979640" y="1268280"/>
            <a:ext cx="4951440" cy="39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beza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ombros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odillas y dedos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odillas y dedos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1908000" y="909720"/>
            <a:ext cx="1224000" cy="1243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6156360" y="2060640"/>
            <a:ext cx="752400" cy="1128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755640" y="3645000"/>
            <a:ext cx="901800" cy="1128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7164360" y="4149720"/>
            <a:ext cx="1224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0:50:23Z</dcterms:created>
  <dc:creator>OEM Preinstalled User</dc:creator>
  <dc:description/>
  <dc:language>en-US</dc:language>
  <cp:lastModifiedBy>Pitchford</cp:lastModifiedBy>
  <dcterms:modified xsi:type="dcterms:W3CDTF">2006-09-19T14:45:50Z</dcterms:modified>
  <cp:revision>4</cp:revision>
  <dc:subject/>
  <dc:title>Slide 1</dc:title>
</cp:coreProperties>
</file>